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8E85-8C6B-4926-B9F6-CA69E060E9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367-3E0B-403E-9A8A-40F334DC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693-DFE5-476C-BCD6-D29C1843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B4E6-D216-49B1-AB78-451C89D7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E8D0-BC9A-4798-99F4-E34D8D76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332F-4589-43F8-B23A-C28C82FF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28CB-5D67-4931-AAA2-FD0E7050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9589-F369-483C-ADAC-46463671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C928-D222-4F6C-AB04-52B88BCE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0EE6-4ADB-43CA-969B-0A8FACE9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51A7-9CE0-4A08-B1E1-60C51F33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496B-4C30-429D-B6E3-757B521B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28E3-903B-48F6-AB68-3F2B338B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613B-851F-4489-AA28-199F55A3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4AD4-FF97-428D-B85E-9433BB7C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CC5E-9E71-4786-B9A0-C345611A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2A33-3C95-4547-95A9-04F712AC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94FC-D7C5-4314-BF4D-DCF577B2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8270-16F8-41BE-A190-6BE46B07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701-6C46-40BF-8312-888896DB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616-353A-4611-91B0-E7C4E118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CFF-06B1-4319-929D-184CB2D3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401E-FA37-4582-BB8D-5BD18E4F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75FF-59CF-4505-B253-82819B33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D0C-91B6-45FB-B0BB-786D138D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E8C8-970D-4A7A-85DE-B399D577EA4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11D4-A7C4-4DD5-B3FC-923F089BFFF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Crossing Membranes 1 – Passive Process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mall particles tend to diffuse faster than larger 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6" descr="MembranePoresandMolecules"/>
          <p:cNvPicPr/>
          <p:nvPr/>
        </p:nvPicPr>
        <p:blipFill>
          <a:blip r:embed="rId1"/>
          <a:stretch/>
        </p:blipFill>
        <p:spPr>
          <a:xfrm>
            <a:off x="971640" y="1773360"/>
            <a:ext cx="7416720" cy="46083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5" descr="3097_web"/>
          <p:cNvPicPr/>
          <p:nvPr/>
        </p:nvPicPr>
        <p:blipFill>
          <a:blip r:embed="rId1"/>
          <a:stretch/>
        </p:blipFill>
        <p:spPr>
          <a:xfrm>
            <a:off x="5003640" y="2133720"/>
            <a:ext cx="3810240" cy="4390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respmemb"/>
          <p:cNvPicPr/>
          <p:nvPr/>
        </p:nvPicPr>
        <p:blipFill>
          <a:blip r:embed="rId2"/>
          <a:stretch/>
        </p:blipFill>
        <p:spPr>
          <a:xfrm>
            <a:off x="611280" y="3357720"/>
            <a:ext cx="3419280" cy="20095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Picture 5" descr="C3leaf"/>
          <p:cNvPicPr/>
          <p:nvPr/>
        </p:nvPicPr>
        <p:blipFill>
          <a:blip r:embed="rId1"/>
          <a:stretch/>
        </p:blipFill>
        <p:spPr>
          <a:xfrm>
            <a:off x="539640" y="2349360"/>
            <a:ext cx="8209080" cy="41752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shorter the distance, the faster the rate of diffusion</a:t>
            </a: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95640" y="3860640"/>
            <a:ext cx="627948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An increase in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increases the rate of dif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cilitated 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facilitatedDiffusion"/>
          <p:cNvPicPr/>
          <p:nvPr/>
        </p:nvPicPr>
        <p:blipFill>
          <a:blip r:embed="rId1"/>
          <a:stretch/>
        </p:blipFill>
        <p:spPr>
          <a:xfrm>
            <a:off x="3564000" y="270828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hannel Proteins facilitate the diffusion of 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332280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cc"/>
                </a:solidFill>
                <a:latin typeface="Arial"/>
              </a:rPr>
              <a:t>Why can ions not diffuse freely across the membra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facil_di"/>
          <p:cNvPicPr/>
          <p:nvPr/>
        </p:nvPicPr>
        <p:blipFill>
          <a:blip r:embed="rId1"/>
          <a:stretch/>
        </p:blipFill>
        <p:spPr>
          <a:xfrm>
            <a:off x="4211640" y="2349360"/>
            <a:ext cx="4105440" cy="3381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4500720" y="5805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80"/>
                </a:solidFill>
                <a:latin typeface="Arial"/>
              </a:rPr>
              <a:t>Usually each channel protein is specific to one type of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hannel proteins can open or close their pores acting like gates depending upon the cell’s need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2" name="Picture 5" descr="facilitateddiffusion"/>
          <p:cNvPicPr/>
          <p:nvPr/>
        </p:nvPicPr>
        <p:blipFill>
          <a:blip r:embed="rId1"/>
          <a:stretch/>
        </p:blipFill>
        <p:spPr>
          <a:xfrm>
            <a:off x="684360" y="2595600"/>
            <a:ext cx="7920000" cy="320976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arrier proteins are more sophisticated in the way they 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facildiffmodels"/>
          <p:cNvPicPr/>
          <p:nvPr/>
        </p:nvPicPr>
        <p:blipFill>
          <a:blip r:embed="rId1"/>
          <a:stretch/>
        </p:blipFill>
        <p:spPr>
          <a:xfrm>
            <a:off x="2124000" y="3552840"/>
            <a:ext cx="5058000" cy="330516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Picture 5" descr="image025"/>
          <p:cNvPicPr/>
          <p:nvPr/>
        </p:nvPicPr>
        <p:blipFill>
          <a:blip r:embed="rId1"/>
          <a:stretch/>
        </p:blipFill>
        <p:spPr>
          <a:xfrm>
            <a:off x="1476360" y="3284640"/>
            <a:ext cx="5572080" cy="2914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4352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10275248"/>
          <p:cNvPicPr/>
          <p:nvPr/>
        </p:nvPicPr>
        <p:blipFill>
          <a:blip r:embed="rId1"/>
          <a:stretch/>
        </p:blipFill>
        <p:spPr>
          <a:xfrm>
            <a:off x="3924360" y="299736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Ai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5" descr="chimneys_"/>
          <p:cNvPicPr/>
          <p:nvPr/>
        </p:nvPicPr>
        <p:blipFill>
          <a:blip r:embed="rId1"/>
          <a:stretch/>
        </p:blipFill>
        <p:spPr>
          <a:xfrm>
            <a:off x="0" y="549360"/>
            <a:ext cx="6156360" cy="461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diffusion-animated"/>
          <p:cNvPicPr/>
          <p:nvPr/>
        </p:nvPicPr>
        <p:blipFill>
          <a:blip r:embed="rId2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wa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11" descr="GB1-os18"/>
          <p:cNvPicPr/>
          <p:nvPr/>
        </p:nvPicPr>
        <p:blipFill>
          <a:blip r:embed="rId1"/>
          <a:stretch/>
        </p:blipFill>
        <p:spPr>
          <a:xfrm>
            <a:off x="1692360" y="227664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-458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66"/>
                </a:solidFill>
                <a:latin typeface="Arial"/>
              </a:rPr>
              <a:t>What is diffusion? (definition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cc"/>
                </a:solidFill>
                <a:latin typeface="Comic Sans MS"/>
              </a:rPr>
              <a:t>Diffusion is the movement of molecules (or ions) from a region of high concentration to a region of lower concentration until they are spread out eve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1304"/>
          <p:cNvPicPr/>
          <p:nvPr/>
        </p:nvPicPr>
        <p:blipFill>
          <a:blip r:embed="rId1"/>
          <a:stretch/>
        </p:blipFill>
        <p:spPr>
          <a:xfrm>
            <a:off x="395280" y="2997360"/>
            <a:ext cx="8334360" cy="38606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:Diffusion in the Alveoli: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35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 diffusing into the bloo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CO</a:t>
            </a:r>
            <a:r>
              <a:rPr b="1" lang="en-GB" sz="35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 diffusing out of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5" descr="0013n046"/>
          <p:cNvPicPr/>
          <p:nvPr/>
        </p:nvPicPr>
        <p:blipFill>
          <a:blip r:embed="rId1"/>
          <a:stretch/>
        </p:blipFill>
        <p:spPr>
          <a:xfrm>
            <a:off x="395280" y="2516040"/>
            <a:ext cx="8137440" cy="43419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 2: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Some digested food diffuses across the gut wall into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Picture 5" descr="fig2_xl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6893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14716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Concentration_Gradient_carbondioxide"/>
          <p:cNvPicPr/>
          <p:nvPr/>
        </p:nvPicPr>
        <p:blipFill>
          <a:blip r:embed="rId1"/>
          <a:stretch/>
        </p:blipFill>
        <p:spPr>
          <a:xfrm>
            <a:off x="179280" y="3141720"/>
            <a:ext cx="4248360" cy="3716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water"/>
          <p:cNvPicPr/>
          <p:nvPr/>
        </p:nvPicPr>
        <p:blipFill>
          <a:blip r:embed="rId2"/>
          <a:stretch/>
        </p:blipFill>
        <p:spPr>
          <a:xfrm>
            <a:off x="4572000" y="3860640"/>
            <a:ext cx="4276800" cy="2533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0"/>
          <p:cNvSpPr/>
          <p:nvPr/>
        </p:nvSpPr>
        <p:spPr>
          <a:xfrm>
            <a:off x="1835280" y="4149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The rate of diffusion is directly proportional to the concentr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Picture 7" descr="12_02_diffusion_rate"/>
          <p:cNvPicPr/>
          <p:nvPr/>
        </p:nvPicPr>
        <p:blipFill>
          <a:blip r:embed="rId1"/>
          <a:stretch/>
        </p:blipFill>
        <p:spPr>
          <a:xfrm>
            <a:off x="1258920" y="1771560"/>
            <a:ext cx="6838920" cy="50864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0:13:43Z</dcterms:created>
  <dc:creator>User</dc:creator>
  <dc:description/>
  <dc:language>en-US</dc:language>
  <cp:lastModifiedBy>LEGION2</cp:lastModifiedBy>
  <dcterms:modified xsi:type="dcterms:W3CDTF">2016-01-11T13:14:41Z</dcterms:modified>
  <cp:revision>11</cp:revision>
  <dc:subject/>
  <dc:title>Crossing Membranes 1 – Passive Processes</dc:title>
</cp:coreProperties>
</file>